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A86F-F40B-41DA-B562-644FA5D4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4D2E-A97F-4A1C-B969-3CF90A7B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34E5-9B08-4A08-9D44-831787B8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1AC-53CF-459F-81A2-B1B830B6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57E1-0D65-4F34-A5B3-7C209176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A369-8DA0-4A09-98DA-5CFD49BF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E962-057A-4FA4-8D50-888D6812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D85E-959E-47E9-819D-7B30A910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84EA-B7DC-443C-87E3-5B0E1D99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396-A9F5-4F8B-AE27-79DBC435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AA92-43AB-46D4-AB22-0B835CDF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C1BB-9C69-455E-B3BE-6D9A92AF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1DEF-553D-4DC9-BC8E-DBCA4CC49D7F}" type="slidenum">
              <a:rPr b="0" lang="en-GB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eewiki.newint.org/index.php/Protecting_the_planet_against_climate_change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1206360"/>
            <a:ext cx="7772400" cy="3975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076360" y="2020320"/>
            <a:ext cx="14292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7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4371840" y="4869000"/>
            <a:ext cx="2360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itle 1" descr=""/>
          <p:cNvPicPr/>
          <p:nvPr/>
        </p:nvPicPr>
        <p:blipFill>
          <a:blip r:embed="rId1"/>
          <a:stretch/>
        </p:blipFill>
        <p:spPr>
          <a:xfrm>
            <a:off x="249120" y="49320"/>
            <a:ext cx="8645760" cy="1150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23640" y="836640"/>
            <a:ext cx="8569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painting mountains whit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developing houses that float on water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texting warning of bad weather to fishermen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putting air-conditioning in bus stop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painting roof gardens whit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lending money to help people after disaster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giving free bottles of water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planting more tree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fighting against dengu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improving the soil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(check your answers in the infographic on the next slide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47" name="Content Placeholder 3" descr=""/>
          <p:cNvPicPr/>
          <p:nvPr/>
        </p:nvPicPr>
        <p:blipFill>
          <a:blip r:embed="rId1"/>
          <a:stretch/>
        </p:blipFill>
        <p:spPr>
          <a:xfrm>
            <a:off x="-23760" y="77760"/>
            <a:ext cx="921528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2077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2492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eewiki.newint.org/index.php/Protecting_the_planet_against_climate_chan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5148360" y="3836880"/>
            <a:ext cx="324000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19:41:30Z</dcterms:created>
  <dc:creator>Linda Ruas</dc:creator>
  <dc:description/>
  <dc:language>en-US</dc:language>
  <cp:lastModifiedBy>Linda Ruas</cp:lastModifiedBy>
  <dcterms:modified xsi:type="dcterms:W3CDTF">2014-05-26T20:08:22Z</dcterms:modified>
  <cp:revision>3</cp:revision>
  <dc:subject/>
  <dc:title>Quiz about climate change: what are countries doing to “climate-proof” the planet?</dc:title>
</cp:coreProperties>
</file>